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E374-1AAB-4196-A533-0E0FFC5132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C383-3CAB-48FC-9619-3E60149F7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32DE-FF77-4399-BEE8-28EBE9DE0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1143-9A44-43A4-B86D-AB45CD055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E815-9933-46D7-BE6D-812612171F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D616-56F9-451C-BE84-38530C6B7A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357A-3382-41E4-9BC2-DF2AACAED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76DD-6D96-44B2-9516-C131A57D6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3B01-274F-4A7E-8928-A6B2DAAA4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3974-2DE5-43CC-999B-A126B6C75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3C8F-2ECB-4CF6-8386-529973B834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19B8-AFB4-4CDB-832F-EABC14809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8085-A246-4571-880B-CF7FF1AC9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F126-EF05-44DB-8B0B-B9ABD9ACE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D340-F070-48A8-9E01-A9C348BDA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168C-CA0C-48B3-9732-90DA27678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B08-C585-4DAD-AF71-AEC15516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600-1086-410D-AEDE-B35A2B4C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57F-819F-4FCB-9F98-7BD0D27B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C33-D234-4F0F-BE79-DF6B29B4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8C41-18D3-4958-839B-466BB165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FF8E-9EB0-41A9-A61B-C55F90B3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E58C-5E17-4FC6-B2BE-2A8D7FE9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30CF-492B-4A60-88B6-6784F784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C7DF-91B9-4350-B61B-7336B4FC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C7FE-A987-47E6-B354-1673C18A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575F-AAE1-42CF-87A3-AF46F3F7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315-719A-436F-A688-67DFB19F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8C02-17A8-4D1C-B45A-1B0E5C10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5649-265A-40EF-9F37-27906EA4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4C72-64DF-41E2-9D0A-D9CBF825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0D9C-0199-432B-BDBF-DE187B02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110B-E568-42F4-A0E6-16DBB0A1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32F-9C4B-4562-9614-DABF5FBA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B8F-B714-40B6-BC03-A41A066E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8C4-4729-4147-8D7A-7E36226C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1F3-2075-4D68-8551-7F59B41C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982-FF8B-4B0A-A77E-288F457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ED8-EB0D-4170-8CBA-216B7550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877-C9FA-48AB-85D3-3D95EADF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06DF-123F-4E56-B781-77AF7D5038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62DF-D924-4CCD-ACC0-EA5CE8C8A3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membranes.nbi.dk/presentation-english/News_engl.html" TargetMode="External"/><Relationship Id="rId4" Type="http://schemas.openxmlformats.org/officeDocument/2006/relationships/hyperlink" Target="http://membranes.nbi.dk/presentation-english/News_engl.html" TargetMode="External"/><Relationship Id="rId5" Type="http://schemas.openxmlformats.org/officeDocument/2006/relationships/hyperlink" Target="http://membranes.nbi.dk/presentation-english/News_engl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Times New Roman"/>
              </a:rPr>
              <a:t>Химический состав клетки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/>
          <p:cNvSpPr/>
          <p:nvPr/>
        </p:nvSpPr>
        <p:spPr>
          <a:xfrm>
            <a:off x="250920" y="234936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иоле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2556000" y="184464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и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4716360" y="2421000"/>
            <a:ext cx="2016360" cy="792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ом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6877080" y="198900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др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547640" y="260280"/>
            <a:ext cx="6193080" cy="719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оненты я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250920" y="3500280"/>
            <a:ext cx="1944720" cy="25927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592720"/>
              <a:gd name="textAreaBottom" fmla="*/ 2498040 h 2592720"/>
            </a:gdLst>
            <a:ahLst/>
            <a:rect l="textAreaLeft" t="textAreaTop" r="textAreaRight" b="textAreaBottom"/>
            <a:pathLst>
              <a:path w="21600" h="28796">
                <a:moveTo>
                  <a:pt x="3600" y="0"/>
                </a:moveTo>
                <a:arcTo wR="3600" hR="3600" stAng="16200000" swAng="-5400000"/>
                <a:lnTo>
                  <a:pt x="0" y="25196"/>
                </a:lnTo>
                <a:arcTo wR="3600" hR="3600" stAng="10800000" swAng="-5400000"/>
                <a:lnTo>
                  <a:pt x="18000" y="28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ойная яде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деляет яд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мое 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жде вс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мосомы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топла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2411280" y="3141720"/>
            <a:ext cx="2017800" cy="251928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6967">
                <a:moveTo>
                  <a:pt x="3600" y="0"/>
                </a:moveTo>
                <a:arcTo wR="3600" hR="3600" stAng="16200000" swAng="-5400000"/>
                <a:lnTo>
                  <a:pt x="0" y="23367"/>
                </a:lnTo>
                <a:arcTo wR="3600" hR="3600" stAng="10800000" swAng="-5400000"/>
                <a:lnTo>
                  <a:pt x="18000" y="26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дерный с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личные 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ческ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4716360" y="3573360"/>
            <a:ext cx="2017800" cy="259236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92360"/>
              <a:gd name="textAreaBottom" fmla="*/ 2494080 h 2592360"/>
            </a:gdLst>
            <a:ahLst/>
            <a:rect l="textAreaLeft" t="textAreaTop" r="textAreaRight" b="textAreaBottom"/>
            <a:pathLst>
              <a:path w="21600" h="27749">
                <a:moveTo>
                  <a:pt x="3600" y="0"/>
                </a:moveTo>
                <a:arcTo wR="3600" hR="3600" stAng="16200000" swAng="-5400000"/>
                <a:lnTo>
                  <a:pt x="0" y="24149"/>
                </a:lnTo>
                <a:arcTo wR="3600" hR="3600" stAng="10800000" swAng="-5400000"/>
                <a:lnTo>
                  <a:pt x="18000" y="27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пирализ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6948360" y="3213000"/>
            <a:ext cx="2017800" cy="244800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448000"/>
              <a:gd name="textAreaBottom" fmla="*/ 2349720 h 2448000"/>
            </a:gdLst>
            <a:ahLst/>
            <a:rect l="textAreaLeft" t="textAreaTop" r="textAreaRight" b="textAreaBottom"/>
            <a:pathLst>
              <a:path w="21600" h="26204">
                <a:moveTo>
                  <a:pt x="3600" y="0"/>
                </a:moveTo>
                <a:arcTo wR="3600" hR="3600" stAng="16200000" swAng="-5400000"/>
                <a:lnTo>
                  <a:pt x="0" y="22604"/>
                </a:lnTo>
                <a:arcTo wR="3600" hR="3600" stAng="10800000" swAng="-5400000"/>
                <a:lnTo>
                  <a:pt x="18000" y="262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глые тель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РНК и бел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 сб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б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1619280" y="1125360"/>
            <a:ext cx="431640" cy="1079640"/>
          </a:xfrm>
          <a:prstGeom prst="downArrow">
            <a:avLst>
              <a:gd name="adj1" fmla="val 50000"/>
              <a:gd name="adj2" fmla="val 62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5580000" y="1197000"/>
            <a:ext cx="432000" cy="1079640"/>
          </a:xfrm>
          <a:prstGeom prst="downArrow">
            <a:avLst>
              <a:gd name="adj1" fmla="val 50000"/>
              <a:gd name="adj2" fmla="val 62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276720" y="1125360"/>
            <a:ext cx="431640" cy="648000"/>
          </a:xfrm>
          <a:prstGeom prst="down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164360" y="119700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Цитоплазм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39640" y="170028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топла́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(от греч. Итос — сосуд, здесь — клетка и плазма — образование) внутренняя среда живой клетки, ограниченная плазматической мембра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1"/>
          <p:cNvPicPr/>
          <p:nvPr/>
        </p:nvPicPr>
        <p:blipFill>
          <a:blip r:embed="rId2"/>
          <a:stretch/>
        </p:blipFill>
        <p:spPr>
          <a:xfrm>
            <a:off x="3635280" y="260280"/>
            <a:ext cx="4684680" cy="63817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0"/>
          <p:cNvSpPr/>
          <p:nvPr/>
        </p:nvSpPr>
        <p:spPr>
          <a:xfrm rot="19418400">
            <a:off x="2484360" y="6021000"/>
            <a:ext cx="936720" cy="4320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23229 -0.24143 E">
                                      <p:cBhvr>
                                        <p:cTn id="418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Times New Roman"/>
              </a:rPr>
              <a:t>Цитоскеле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1471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итоплазма эукариотических клеток пронизана трехмерной сеткой из белковых нитей (филаментов), называемой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цитоскелетом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611280" y="4005360"/>
            <a:ext cx="3024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66"/>
                </a:solidFill>
                <a:latin typeface="Times New Roman"/>
              </a:rPr>
              <a:t>Цитоскелет эукариот. Актиновые микрофиламенты окрашены в красный, микротрубочки — в зеленый, ядра клеток — в голубо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Цитоскелет эукариот. Актиновые микрофиламенты окрашены в красный, микротрубочки — в зеленый, ядра клеток — в голубой цвет."/>
          <p:cNvPicPr/>
          <p:nvPr/>
        </p:nvPicPr>
        <p:blipFill>
          <a:blip r:embed="rId2"/>
          <a:stretch/>
        </p:blipFill>
        <p:spPr>
          <a:xfrm>
            <a:off x="5292720" y="2924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3394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ератиновые промежуточные филаменты в клетк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Кератиновые промежуточные филаменты в клетке."/>
          <p:cNvPicPr/>
          <p:nvPr/>
        </p:nvPicPr>
        <p:blipFill>
          <a:blip r:embed="rId2"/>
          <a:stretch/>
        </p:blipFill>
        <p:spPr>
          <a:xfrm>
            <a:off x="3564000" y="836640"/>
            <a:ext cx="52941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Функции цитоплазм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мещает вместе с собой различные вещества, включения и органои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й протекают все процессы обмена веще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ейшая роль цитоплазмы заключается в объединении всех клеточных структур (компонентов) и обеспечении их химического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2"/>
          <a:stretch/>
        </p:blipFill>
        <p:spPr>
          <a:xfrm>
            <a:off x="2505240" y="30240"/>
            <a:ext cx="4151160" cy="828720"/>
          </a:xfrm>
          <a:prstGeom prst="rect">
            <a:avLst/>
          </a:prstGeom>
          <a:ln w="0">
            <a:noFill/>
          </a:ln>
        </p:spPr>
      </p:pic>
      <p:grpSp>
        <p:nvGrpSpPr>
          <p:cNvPr id="244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4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Белки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Аминокисл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6"/>
          <p:cNvSpPr/>
          <p:nvPr/>
        </p:nvSpPr>
        <p:spPr>
          <a:xfrm>
            <a:off x="5357880" y="335772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инт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идоспецифических бе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миозин, козеин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рганоиды клеток тела, мембраны, фер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Скругленный прямоугольник 8"/>
          <p:cNvGrpSpPr/>
          <p:nvPr/>
        </p:nvGrpSpPr>
        <p:grpSpPr>
          <a:xfrm>
            <a:off x="5297400" y="2676600"/>
            <a:ext cx="3328920" cy="755640"/>
            <a:chOff x="5297400" y="2676600"/>
            <a:chExt cx="3328920" cy="755640"/>
          </a:xfrm>
        </p:grpSpPr>
        <p:pic>
          <p:nvPicPr>
            <p:cNvPr id="253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297400" y="267660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389560" y="274644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56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59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62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Стрелка вниз 12"/>
          <p:cNvGrpSpPr/>
          <p:nvPr/>
        </p:nvGrpSpPr>
        <p:grpSpPr>
          <a:xfrm>
            <a:off x="6656400" y="4535640"/>
            <a:ext cx="615960" cy="536400"/>
            <a:chOff x="6656400" y="4535640"/>
            <a:chExt cx="615960" cy="536400"/>
          </a:xfrm>
        </p:grpSpPr>
        <p:pic>
          <p:nvPicPr>
            <p:cNvPr id="265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656400" y="453564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840360" y="457200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268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пе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желу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три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Прямая со стрелкой 17"/>
          <p:cNvCxnSpPr>
            <a:stCxn id="270" idx="1"/>
            <a:endCxn id="247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Прямая со стрелкой 20"/>
          <p:cNvCxnSpPr>
            <a:stCxn id="271" idx="1"/>
            <a:endCxn id="247" idx="3"/>
          </p:cNvCxnSpPr>
          <p:nvPr/>
        </p:nvCxnSpPr>
        <p:spPr>
          <a:xfrm flipH="1">
            <a:off x="3499920" y="2149560"/>
            <a:ext cx="50112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TextBox 24"/>
          <p:cNvSpPr/>
          <p:nvPr/>
        </p:nvSpPr>
        <p:spPr>
          <a:xfrm>
            <a:off x="428760" y="528624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белк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Прямоугольник 1" descr=""/>
          <p:cNvPicPr/>
          <p:nvPr/>
        </p:nvPicPr>
        <p:blipFill>
          <a:blip r:embed="rId2"/>
          <a:stretch/>
        </p:blipFill>
        <p:spPr>
          <a:xfrm>
            <a:off x="2560680" y="30240"/>
            <a:ext cx="4048200" cy="828720"/>
          </a:xfrm>
          <a:prstGeom prst="rect">
            <a:avLst/>
          </a:prstGeom>
          <a:ln w="0">
            <a:noFill/>
          </a:ln>
        </p:spPr>
      </p:pic>
      <p:grpSp>
        <p:nvGrpSpPr>
          <p:cNvPr id="276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77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Липи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ные кислоты, глицер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Лимфа. 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6"/>
          <p:cNvSpPr/>
          <p:nvPr/>
        </p:nvSpPr>
        <p:spPr>
          <a:xfrm>
            <a:off x="5429160" y="342900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интет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овое депо (сальник, подкожная клетча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Скругленный прямоугольник 8"/>
          <p:cNvGrpSpPr/>
          <p:nvPr/>
        </p:nvGrpSpPr>
        <p:grpSpPr>
          <a:xfrm>
            <a:off x="5370480" y="2822400"/>
            <a:ext cx="3328920" cy="749520"/>
            <a:chOff x="5370480" y="2822400"/>
            <a:chExt cx="3328920" cy="749520"/>
          </a:xfrm>
        </p:grpSpPr>
        <p:pic>
          <p:nvPicPr>
            <p:cNvPr id="285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370480" y="2822400"/>
              <a:ext cx="3328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460840" y="2889360"/>
              <a:ext cx="315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88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91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94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Стрелка вниз 12"/>
          <p:cNvGrpSpPr/>
          <p:nvPr/>
        </p:nvGrpSpPr>
        <p:grpSpPr>
          <a:xfrm>
            <a:off x="6724800" y="4608360"/>
            <a:ext cx="614160" cy="536760"/>
            <a:chOff x="6724800" y="4608360"/>
            <a:chExt cx="614160" cy="536760"/>
          </a:xfrm>
        </p:grpSpPr>
        <p:pic>
          <p:nvPicPr>
            <p:cNvPr id="297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724800" y="4608360"/>
              <a:ext cx="614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912000" y="4643280"/>
              <a:ext cx="249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300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липаз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12-перстной ки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4000680" y="1857240"/>
            <a:ext cx="2214360" cy="106740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ецитиназа, лип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Прямая со стрелкой 17"/>
          <p:cNvCxnSpPr>
            <a:stCxn id="302" idx="1"/>
            <a:endCxn id="279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Прямая со стрелкой 20"/>
          <p:cNvCxnSpPr>
            <a:stCxn id="303" idx="1"/>
            <a:endCxn id="279" idx="3"/>
          </p:cNvCxnSpPr>
          <p:nvPr/>
        </p:nvCxnSpPr>
        <p:spPr>
          <a:xfrm flipH="1">
            <a:off x="3499920" y="2273400"/>
            <a:ext cx="501120" cy="48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TextBox 24"/>
          <p:cNvSpPr/>
          <p:nvPr/>
        </p:nvSpPr>
        <p:spPr>
          <a:xfrm>
            <a:off x="285840" y="521496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жира при расщеплении дает 38,9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1" descr=""/>
          <p:cNvPicPr/>
          <p:nvPr/>
        </p:nvPicPr>
        <p:blipFill>
          <a:blip r:embed="rId2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308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31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319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322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325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328" name="Стрелка вниз 13" descr=""/>
            <p:cNvPicPr/>
            <p:nvPr/>
          </p:nvPicPr>
          <p:blipFill>
            <a:blip r:embed="rId8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Прямая со стрелкой 17"/>
          <p:cNvCxnSpPr>
            <a:stCxn id="330" idx="1"/>
            <a:endCxn id="311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3" name="Прямая со стрелкой 20"/>
          <p:cNvCxnSpPr>
            <a:stCxn id="331" idx="1"/>
            <a:endCxn id="311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337" name="Стрелка вниз 29" descr=""/>
            <p:cNvPicPr/>
            <p:nvPr/>
          </p:nvPicPr>
          <p:blipFill>
            <a:blip r:embed="rId9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341" name="Стрелка вниз 35" descr=""/>
            <p:cNvPicPr/>
            <p:nvPr/>
          </p:nvPicPr>
          <p:blipFill>
            <a:blip r:embed="rId10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344" name="Стрелка вниз 36" descr=""/>
            <p:cNvPicPr/>
            <p:nvPr/>
          </p:nvPicPr>
          <p:blipFill>
            <a:blip r:embed="rId11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2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34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348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351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354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6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7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hape 68"/>
          <p:cNvCxnSpPr>
            <a:stCxn id="363" idx="4"/>
            <a:endCxn id="36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0" name="Shape 77"/>
          <p:cNvCxnSpPr>
            <a:stCxn id="364" idx="0"/>
            <a:endCxn id="36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9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Прямоугольник 5" descr=""/>
          <p:cNvPicPr/>
          <p:nvPr/>
        </p:nvPicPr>
        <p:blipFill>
          <a:blip r:embed="rId2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39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45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Прямая со стрелкой 14"/>
          <p:cNvCxnSpPr>
            <a:stCxn id="393" idx="3"/>
            <a:endCxn id="39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сновные части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оверхностный комплекс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Цитоплазма и ее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rakk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197000"/>
            <a:ext cx="42609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Прямоугольник 3" descr=""/>
          <p:cNvPicPr/>
          <p:nvPr/>
        </p:nvPicPr>
        <p:blipFill>
          <a:blip r:embed="rId2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1. Основные части клет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верхностный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 с ядерным веществом (ДН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пла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клю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190-2.jpg"/>
          <p:cNvPicPr/>
          <p:nvPr/>
        </p:nvPicPr>
        <p:blipFill>
          <a:blip r:embed="rId2"/>
          <a:stretch/>
        </p:blipFill>
        <p:spPr>
          <a:xfrm>
            <a:off x="5651640" y="3141720"/>
            <a:ext cx="3124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5"/>
          <p:cNvSpPr/>
          <p:nvPr/>
        </p:nvSpPr>
        <p:spPr>
          <a:xfrm>
            <a:off x="75564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5928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700360" y="333360"/>
            <a:ext cx="4032360" cy="1008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поненты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 rot="1059000">
            <a:off x="1402920" y="692280"/>
            <a:ext cx="936720" cy="936360"/>
          </a:xfrm>
          <a:custGeom>
            <a:avLst/>
            <a:gdLst>
              <a:gd name="textAreaLeft" fmla="*/ 125280 w 936720"/>
              <a:gd name="textAreaRight" fmla="*/ 811440 w 93672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 rot="20680800">
            <a:off x="7020000" y="69192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75564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 специ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нно ва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485928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гут появляться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чезать в проце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деятельности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/>
          <p:cNvSpPr/>
          <p:nvPr/>
        </p:nvSpPr>
        <p:spPr>
          <a:xfrm rot="5400000">
            <a:off x="2051640" y="2997720"/>
            <a:ext cx="8650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 rot="5400000">
            <a:off x="6299640" y="2998080"/>
            <a:ext cx="8650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75564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485928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КЛЮ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 rot="5400000">
            <a:off x="2232720" y="4977360"/>
            <a:ext cx="5032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 rot="5400000">
            <a:off x="6480360" y="4977360"/>
            <a:ext cx="5032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2195640" y="549360"/>
            <a:ext cx="4752720" cy="9349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39640" y="2133720"/>
            <a:ext cx="360072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 об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4932360" y="2133720"/>
            <a:ext cx="360036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rot="1059000">
            <a:off x="971640" y="981000"/>
            <a:ext cx="936360" cy="936720"/>
          </a:xfrm>
          <a:custGeom>
            <a:avLst/>
            <a:gdLst>
              <a:gd name="textAreaLeft" fmla="*/ 125280 w 936360"/>
              <a:gd name="textAreaRight" fmla="*/ 811080 w 93636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20680800">
            <a:off x="7164360" y="105228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539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с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ы и т.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5003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сн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гутик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 rot="5400000">
            <a:off x="172692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 rot="5400000">
            <a:off x="626400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Times New Roman"/>
              </a:rPr>
              <a:t>Биологическая мембрана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8" descr="биомембрана"/>
          <p:cNvPicPr/>
          <p:nvPr/>
        </p:nvPicPr>
        <p:blipFill>
          <a:blip r:embed="rId2"/>
          <a:stretch/>
        </p:blipFill>
        <p:spPr>
          <a:xfrm>
            <a:off x="539640" y="1700280"/>
            <a:ext cx="8167680" cy="4753080"/>
          </a:xfrm>
          <a:prstGeom prst="rect">
            <a:avLst/>
          </a:prstGeom>
          <a:ln w="0">
            <a:noFill/>
          </a:ln>
        </p:spPr>
      </p:pic>
      <p:sp>
        <p:nvSpPr>
          <p:cNvPr id="186" name="Line 9"/>
          <p:cNvSpPr/>
          <p:nvPr/>
        </p:nvSpPr>
        <p:spPr>
          <a:xfrm>
            <a:off x="3780000" y="1844640"/>
            <a:ext cx="86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187280" y="1413000"/>
            <a:ext cx="3889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лигосахаридная боковая ц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443640" y="1844640"/>
            <a:ext cx="2521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й 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5435640" y="2349360"/>
            <a:ext cx="165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250920" y="566100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сфолип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97164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2195640" y="6021360"/>
            <a:ext cx="302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й (шаровид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V="1">
            <a:off x="3635280" y="530064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6443640" y="602136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 flipH="1" flipV="1">
            <a:off x="6803640" y="55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Times New Roman"/>
              </a:rPr>
              <a:t>Модель Г.Николсона и С.Сингера напоминает мозаику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News_engl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26920" y="1341360"/>
            <a:ext cx="6902640" cy="51548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4140360" y="6222240"/>
            <a:ext cx="47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3"/>
              </a:rPr>
              <a:t>membranes.nbi.dk</a:t>
            </a: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4"/>
              </a:rPr>
              <a:t>/.../</a:t>
            </a: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5"/>
              </a:rPr>
              <a:t>News_engl.htm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1187280" y="549360"/>
            <a:ext cx="6553440" cy="863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ки мемб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395280" y="1989000"/>
            <a:ext cx="2664000" cy="862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мембран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6372360" y="1989000"/>
            <a:ext cx="2376360" cy="865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ифер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3492360" y="1989000"/>
            <a:ext cx="244980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ецептор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68360" y="3429000"/>
            <a:ext cx="2590920" cy="194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ходят через вс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лщу мемб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здают в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дрофильные 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порт вещест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3276720" y="3429000"/>
            <a:ext cx="273348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гружены в тол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сфолипид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цептор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6300720" y="3429000"/>
            <a:ext cx="259092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жат снару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ы, примы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ногооб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 фер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140328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435600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716436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40328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/>
          <p:cNvSpPr/>
          <p:nvPr/>
        </p:nvSpPr>
        <p:spPr>
          <a:xfrm>
            <a:off x="442764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7236000" y="2924280"/>
            <a:ext cx="433080" cy="504720"/>
          </a:xfrm>
          <a:prstGeom prst="downArrow">
            <a:avLst>
              <a:gd name="adj1" fmla="val 50000"/>
              <a:gd name="adj2" fmla="val 2913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>
            <a:off x="179280" y="5734080"/>
            <a:ext cx="230364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-переносч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2"/>
          <p:cNvSpPr/>
          <p:nvPr/>
        </p:nvSpPr>
        <p:spPr>
          <a:xfrm>
            <a:off x="2700360" y="5734080"/>
            <a:ext cx="230328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налообразу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3"/>
          <p:cNvSpPr/>
          <p:nvPr/>
        </p:nvSpPr>
        <p:spPr>
          <a:xfrm>
            <a:off x="900000" y="530064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4"/>
          <p:cNvSpPr/>
          <p:nvPr/>
        </p:nvSpPr>
        <p:spPr>
          <a:xfrm rot="19911600">
            <a:off x="2700360" y="522936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Ядро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4" descr="Изображение:Diagram human cell nucleus ru.sv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24000" y="495360"/>
            <a:ext cx="7777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1T14:26:35Z</dcterms:created>
  <dc:creator>Долгорукова</dc:creator>
  <dc:description/>
  <dc:language>en-US</dc:language>
  <cp:lastModifiedBy>Student</cp:lastModifiedBy>
  <dcterms:modified xsi:type="dcterms:W3CDTF">2012-03-31T05:56:24Z</dcterms:modified>
  <cp:revision>35</cp:revision>
  <dc:subject/>
  <dc:title>Слайд 1</dc:title>
</cp:coreProperties>
</file>